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69C-FA14-40DC-9575-7055B7EC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141-CC87-48D0-AF12-5CCA7519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4AC6A-CB58-4463-8C78-84992E05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D6FF4D-2C3D-4403-BD05-84ACB5B7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658DB-FBB9-4172-B056-7E30E2B7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B3733E-44E8-4A12-A9E7-11E79F1C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0F7242-5067-4106-B8FC-1911DCE9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213DB-3D04-413B-AF61-7D6A7C1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57AB42-667F-47DB-9E2F-2DC4FE4A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86C4E8-4A14-4FA5-88F0-83316C04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2087E7-9117-42B6-A9B7-E639A294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1B4-513E-4A22-975A-E0294E51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0F9-4D7D-4AEC-A3C2-EBADCE93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FE56-8C76-4B35-9A31-CE1E637B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B887-8311-4C5D-8CBB-E3EA4276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50D5-81A4-437D-AC74-864D7CD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E22B-599A-4BC2-A5F8-684ABFBC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EF15-CD1B-4B70-A96C-ACABB8F6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9A8D-B63F-4B51-A6BB-6BB0B5A2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9405-9030-44B9-A2D7-5F773A03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7B1-8C1C-4536-87C5-BD36551F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BD9E-D453-4D2C-9092-9AC87F0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680A-BB1B-45C8-8BD5-B5559D9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5CD0-91DA-4F70-A10D-190E0259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A8B-A30E-4F21-A71D-71062332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F572-2CEA-4952-AA67-17494D7D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97298-253F-4DEC-BDCD-F1FD3748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0A87-ED04-45C5-A2F9-5293687A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C1A4-206C-4F01-BD4C-236D3ED4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2CFB-3A10-4DD1-B518-FF8CC510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5144-6F90-4EF4-89EF-A27A2991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A41-0772-48BD-877A-C86ACAAA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AEA8-2320-4343-8E80-E92C02CD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55F4-B31B-497D-B9C1-108917FC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BA94-637F-462B-9D34-E8822AFB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FC0BF-C82C-4FFE-B48C-8F94F1F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911B3-215A-47C8-9378-6F79C79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6EEB-0CF3-4EDC-915D-5A46374B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FE32-9C8A-4E8D-8A2B-FDC13807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1C75D-F2BB-432D-B3EF-767A2AE8BB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1CC71-9CE2-4658-8B18-3D494A7200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FE575-8327-4DB1-A0BB-B92553D16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627-0DAE-4769-8B0C-EC9552A8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01DD6-D0DB-4289-AAAB-C3DFCE3508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FC752-046F-424F-AEAB-67A38DAD67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C94AC-79C4-4502-BC6A-0EA214CFE7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E9295-5DE1-4B42-AF30-C8525768AB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4E77B-5E65-4CE4-83B4-E91862BA17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7A814-7D91-4082-9483-BE2E9F71CB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F672DC-599F-440E-B5CC-9342E5BB7F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24CA3-239C-4DB9-A120-B831310F7E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9A607-16DC-4DE9-8EB4-B717A70E94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1501-4D9A-4CBD-8379-F2163EE6F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F9C-27B4-49BD-8C1A-8782F2CD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974E-D7DF-4483-9E41-DAFF523C5D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56C8-CC81-4332-B816-D1A3AD7CD63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75AA-09DB-47D9-84B1-51FAFE2135E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1E8C-343C-4EC2-8734-AF9D7EC7611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9E7F-E12C-44E6-8454-2A76938EB7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4757-A1D5-413B-A7FD-162BFB61D13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A916-4B12-4605-8843-E96949E745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C0F2-966C-4247-A07E-395410588C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85C9-431E-4727-AB99-88F3401DE7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4E2F-81F2-4F87-B6E3-7DABB039F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311-1277-4CEB-A316-C4288B51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1F5C3-6ECF-4869-B828-11DF9FC2A7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96F7B-19E2-4439-AB83-BD179B33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4F515-F158-4B50-948B-6C87BDD4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E39968-0597-442C-B253-4ACD70C3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5B754C-727B-4C54-84B4-D5271144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E62C58-DAD7-45A5-A858-DF23BDF2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B91488-7F20-4A29-8BAC-0C51E2C8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5FCA8-7123-4978-A41C-1F9E9E58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C9D3F7-55F7-4FC8-A43C-0BA7215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E1192-8DFE-44FB-AB5E-FC715671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0EE-E04A-4BD4-8551-82C22B60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661EF9-586B-4831-8C21-F9B4337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03022B-E8C8-4726-8BD0-B4DFA774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64FC85-CF01-4CD4-8E10-433E0EBD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7CC84-1CE7-48A1-99F0-6791461972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EBD2D-0B49-4EDD-86B6-A7DDD327C9C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99D35-300A-4898-80D2-02479969D48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AFF7-0D76-49D2-8479-ADAFF1E3FE1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71AF-734B-4928-8A49-66BC116C83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BF3DD-42EE-41D8-8F42-47696796EF2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D0D4D-93A5-4F50-BEDD-8D4F85821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5C5-1870-4C63-981E-F28F2EE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6B41B-34AE-4B93-BC92-A582D0DD09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97ED-3B02-4FC5-9B29-DB4D97760A7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ADDFB-66E3-40E5-B2B1-5F6B5BC9FD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D7D90-4FCB-4A05-A0E3-E1AEBF3E87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5C3E7-8EB9-4D09-9F9A-F20E27D63A2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08CAE-C8E1-4880-BB49-7870EDD074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744B0-868D-4902-ABC2-98F80A446A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6085C-E4B2-4305-B18B-3F0A6A9FE0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523E5-FC41-4F6E-9731-DCF8A45C578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6F0CD-F93A-4837-A43E-77BF433CC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892-66D3-4638-8BF7-CD5D8F29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5D995-4B60-424F-9087-2D85818D01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34C8F-061F-4D65-B57B-23B44992085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CD226-50DF-42E3-B3F0-42B80A3D93F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AB2C8-F1EA-4681-8EB4-231FCA1B16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E85AA-970F-48B8-B4C5-DDDC02683C5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BCDC5-D82D-41B8-A032-95B76F4C86C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75F74-93A3-43EB-98E7-AC2CF0121E7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753F4-9535-4D78-AD09-7EA7427C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505E5E-C7F3-4C60-B0F1-27F120D2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1ED931-8FC0-4FED-A7E2-7CB1F34D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5BA0-92CF-463E-9449-17BCB7601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D2B6-0437-40E5-9D1D-4C3F2D621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307-9F9C-4AF8-AE88-3B20FDAC5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6D87A30-7703-47A2-95D3-23C8F87F877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EF8799D-FDB7-4B30-B2E8-E99F4769332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dt" idx="1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7A43-802A-4E8A-A39A-C184ABB8E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B01E509-00B9-43CE-8801-8675F59E494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0106084-48B5-45CC-B5E6-E009EABFBEA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CA3F648-6744-428D-93B4-B9AE7A0507B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605B-DC1A-4526-BE99-ADFB893074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w_4BTl4U_xlivM&amp;tbnid=mFmrQ4FAGOyrtM:&amp;ved=0CAUQjRw&amp;url=http%3A%2F%2Fwww.floridadiscountcoupons.com%2Fdiscount-ritas.htm&amp;ei=q1ifUYH2PMPz0gH2t4HwDg&amp;bvm=bv.47008514,d.dmQ&amp;psig=AFQjCNF5KXv1vOE-sI7XIxMFGX6ZRAAuRg&amp;ust=13694838130404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3gI9ms8Fdc" TargetMode="External"/><Relationship Id="rId2" Type="http://schemas.openxmlformats.org/officeDocument/2006/relationships/hyperlink" Target="http://youtu.be/frXlYeflkt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2921-3ED0-4028-B65B-B4B34F031D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Promotion Unit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83808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orts &amp; Entertainment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D115-8669-4DC5-9A7D-2C411300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2 ~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bl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unpa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dia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positive or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product, service or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Outs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 Articles, TV News Stor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With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Releases, Speeches, Community Involvement through service &amp;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F62F-ABD3-4BA3-9AA7-70668F7A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1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les pro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incentives offere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mited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encourage consumers to buy a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ime Membershi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Hour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a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ms with company’s name printed on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0880" y="30492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3 ~ Sales Pro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6" descr="http://www.floridadiscountcoupons.com/images/ritas_bogo_coup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4290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BF17-D56D-4ADC-B3A1-0E5623D9F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al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-person, face-to-face communication between a seller and a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dor to business bu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rep to stor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l Clerk to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6553080" y="4637160"/>
            <a:ext cx="2590920" cy="22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A6E5-E746-4F45-8DE1-FED67F7F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attention to questions/hes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able Salesper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product/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comparisons to simi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personal expe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questions and close the 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6840" y="2819520"/>
            <a:ext cx="838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element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S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228600"/>
            <a:ext cx="785664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AAE7-23C3-4283-B51F-AAF747231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2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Advertising and Placement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scribe the steps involved in developing effective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use of product pla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1FBF-362A-421B-A9CE-BEF1AF223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Opening Act ~ Page 26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how much it would cost to watch 10 episodes of your top 6 shows at a cost of $5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alternative ways production of TV programming could be fun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ys would be most appealing to TV vie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3A71-2BC3-4FAB-81E8-1954342D9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umers about new products and services and helps consumers make comparisons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  <p:pic>
        <p:nvPicPr>
          <p:cNvPr id="459" name="Rectangle 5" descr=""/>
          <p:cNvPicPr/>
          <p:nvPr/>
        </p:nvPicPr>
        <p:blipFill>
          <a:blip r:embed="rId2"/>
          <a:stretch/>
        </p:blipFill>
        <p:spPr>
          <a:xfrm>
            <a:off x="334800" y="4479840"/>
            <a:ext cx="6731280" cy="209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CB3D-955E-4B02-8A47-104434349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Step by Step </a:t>
            </a:r>
            <a:r>
              <a:rPr b="1" lang="en-US" sz="1900" spc="-1" strike="noStrike">
                <a:solidFill>
                  <a:srgbClr val="99ff66"/>
                </a:solidFill>
                <a:latin typeface="Arial Black"/>
              </a:rPr>
              <a:t>(described more in next slides)</a:t>
            </a:r>
            <a:endParaRPr b="1" lang="en-US" sz="1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 advertising requi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measurable advertising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advertising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n advertising t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advertising me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 advertising sched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he effectiveness of the adverti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BEFC-5162-425B-B600-93E473C7E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 ~ The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.M.A.R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cif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ur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tain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list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want to accomplish???   With Detail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 ~ The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inal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the advertising budget by estimating the point at which an additional dollar spent on advertising equals additional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0E38-F380-48BB-A26B-19D80229F2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rts &amp; Entertainment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1 Promoting Sports &amp; Entertai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2 Advertising &amp; Plac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3 Publicity &amp; Sales Promo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895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67BE-AEBF-46F9-B888-71483012A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 a percentage of expected sales revenues to the advertising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sum per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vertising budget based on the expected number of units to be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ive p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maintain the current share of 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a similar dollar amount or frequency of advertising as that of compet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~ The Budge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33CB-6737-4DFE-8EE6-8FE5955C7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305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 ~ The 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gl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e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logan that conveys the main message of the a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#4 ~ The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wspaper, magazines, bags, billboard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cast/cabl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radio, T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home (billboards, stadium signs, rad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home (TV, magaz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6310-CA70-4E71-887C-7E50130E6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Mix selected is primarily base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dvertising budget and target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ing the media that will bring the most effective advertising message to the targeted consu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eople in the target market expected to receive the message through the chosen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6858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 ~ The Medi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1747-8F53-4FC3-843D-8B57DFA84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s to be spoken or printed in the advertis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work, Photos, Video added to enhance viewers’ interest and grab their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r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dvertising loses its effectiveness due to overexposure or poor messag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 ~ 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8480-6407-41E2-9FEE-B22A4CFD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times the targeted customer is exposed to the medi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ying / relying on a single med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nce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irm buys the maximum reach and frequency in one medium and purchases additional space in or time on other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 ~ Th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57AB-09CF-4C31-9A01-C36B7A7CF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=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d doesn’t meet our goal, it’s cost &amp; efforts were was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shape and improve future advertising strateg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pon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customers who connect with and act in relation to the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ed, complied, examine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~ The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94A7-15DA-4280-BF0D-C9CF267F2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t’s Showti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Fall TV shows are “pitched” to ad firms before airing. (Spring meeting/presen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 Firms buy time slots based on compatibility  of potential viewing audien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im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largest viewing audiences are watching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st expen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ime to adv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d based on expected audience ra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BE2B-BAAC-431F-AF59-9801D2986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advertising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gage view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e them to take specific 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communications can be used to create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active conn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potential custome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8C8F-5385-42C5-B985-42CB2288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tiac – contest to photograph new G6 with phones to enter for a chance to win $1 Milli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people to look for G6 on the street, visit the dealership, attend the car show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publicity &amp;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edias ran the story/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Messaging &amp; Twitter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s watching LIVE TV rather than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26C7-990E-467D-A59C-44EC53E8D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4920" y="289512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easurable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effectiveness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2"/>
          <p:cNvSpPr/>
          <p:nvPr/>
        </p:nvSpPr>
        <p:spPr>
          <a:xfrm>
            <a:off x="2514600" y="685800"/>
            <a:ext cx="6629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steps involved in developing effective adverti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0926-67E8-407A-8DBA-B32AE7348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1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romoting Sports and Entertainment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2819160"/>
            <a:ext cx="8007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goal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fine four element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AE9D-AD04-4A90-8A72-A44FC3B9B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CT PLAC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placement is a fast growing form of sales promotion used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ms (Mov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th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placement can be used to offset the need for traditional advertis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289548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8CF1-8DDD-4A65-88BD-663B56B9D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Brainsto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9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x Network ~ Show “24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Free Episode included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3-minute ads by Ford Motor Comp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t beginning and end of show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Character, Jack Bauer, drives a Ford Expedition and other Fords are seen throughout the sh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other products have you se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ly placed in Movies, TV or The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0EBF-51E1-4F4B-BC39-E656429EB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Who Pay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common ways that product placement deals might be constructe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rporation will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y a f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film’s producers for prominent product plac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very expensive product is needed, it may b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vided for 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film in exchange for the prominent display of the brand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promotes movie in product advertising in exchange for product placement.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E3E-E4B2-4EA2-B95A-882D6AE5A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ree ways product placement deals are constru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ious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6411-1034-45EB-BCBF-545146C68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3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ublicity &amp; Sales Promotion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ublicity and explain its role in creating a positive public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various types of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1CCF-AC48-4BF9-B6C2-584A9FA55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publicity is fre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age is controll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s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that are presenting the mess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motional too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8615-C4B4-402D-9EA7-C750AB86E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oodw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’ positive feelings about th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ity Events, Marathons (Walks, 5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- Pledg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Donations – for public acknowledg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F73D-70D6-42DD-945A-177A9406F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Damage Contr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who is responsible for maintaining relations with the public and news me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mag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ttempt to refute, justify, or downplay nega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s to focus attention on more posi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1254-C81E-4758-A861-2821CE553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rass-Roots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ss-roots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n unknown person or event is propelled into the spotlight by fa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campa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motion where a few online mentions turn into a real buzz about a mo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s the movie into a mega h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trotur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fake grass-roots effort (forced, f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C6BF-9CF3-4E1C-BA6F-00E8A8596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mage is Every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relations (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 of promotion that tries to create a favorable public opinion for an individual or organiz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th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relations focus on the future with the intent of creating a positive image of the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kesperson: must know the desired image and represent the company message, profession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F805-401D-4D00-A4B5-6AE640BFD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URPOSE OF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making customers aware of a product, service, or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imary Goal =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INCREAS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ning new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ing customers to be loy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705720" y="2286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FC8D-81E2-4EBB-A89A-038F11BC2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letes &amp; Their Public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 athletes feel the pressure of being public role models while meeting athletic performance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par performances = disappointing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can lead to immature, bad decis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 to keep a positive public imag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ty involvement, Charities, et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positive-caring, giving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Coverage  leads people to believe they are overpaid for their talents.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Negative – greedy, thoughtl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69AB-52A6-42B3-8F30-5E15A2627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6" descr="http://t1.gstatic.com/images?q=tbn:ANd9GcSvG8AbujcaAkqrUajl3WExhGj6f8-Re228i9vSLsmj0BJmQty2"/>
          <p:cNvPicPr/>
          <p:nvPr/>
        </p:nvPicPr>
        <p:blipFill>
          <a:blip r:embed="rId1"/>
          <a:stretch/>
        </p:blipFill>
        <p:spPr>
          <a:xfrm>
            <a:off x="4952880" y="457200"/>
            <a:ext cx="3895920" cy="3895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http://missourisportsmag.com/wp-content/uploads/2011/12/big_brothers_big_sisters_logo.jpg"/>
          <p:cNvPicPr/>
          <p:nvPr/>
        </p:nvPicPr>
        <p:blipFill>
          <a:blip r:embed="rId2"/>
          <a:stretch/>
        </p:blipFill>
        <p:spPr>
          <a:xfrm>
            <a:off x="228600" y="4191120"/>
            <a:ext cx="4495680" cy="2286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http://ww1.prweb.com/prfiles/2008/12/05/281058/MarchOfDimesLogo.gif"/>
          <p:cNvPicPr/>
          <p:nvPr/>
        </p:nvPicPr>
        <p:blipFill>
          <a:blip r:embed="rId3"/>
          <a:stretch/>
        </p:blipFill>
        <p:spPr>
          <a:xfrm>
            <a:off x="4952880" y="4572000"/>
            <a:ext cx="3990960" cy="1905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http://www.infobarrel.com/media/image/9471.jpg"/>
          <p:cNvPicPr/>
          <p:nvPr/>
        </p:nvPicPr>
        <p:blipFill>
          <a:blip r:embed="rId4"/>
          <a:stretch/>
        </p:blipFill>
        <p:spPr>
          <a:xfrm>
            <a:off x="228600" y="457200"/>
            <a:ext cx="4495680" cy="355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E0F2-CD17-4AA2-8A4E-E8B45D44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Day Imag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need to maintain a positive re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lent service, cleanliness, saf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and sports fans need to have a positive image to encourag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si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ttend gam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ally helps area and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 reputation: keeps people aw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C12A-D9A8-4A0A-9B9B-7C585AC2C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publicity different fr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type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 is free exposure but not really controlled by the business or person receiv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o it can be neg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E70-9787-4FA9-9CD6-BA1CBCAD8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promotions are marketing efforts that o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an additional incentive 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mited time motivator to make a purc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positive influen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reluctant pot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into buy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BA32-CD44-46E9-A634-09389A82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 Black"/>
              </a:rPr>
              <a:t>Consumer Sales Promo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sales promo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at the final consumer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00A9-2757-4F17-AE68-BA8F64434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Trad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d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ales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ed at members of the distribution chann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hort-term discounts to distributors and retailers for selling or participating in the promotion of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con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 the most, get a r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-of-purchase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materials provided to help sel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3D7E-6FFB-4E66-87C5-E7F90EE0C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Employe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sh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tra commission paid to sales persons who sell or push particu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an appliance manufacturer offers a bonus for selling a washer or dryer from a line that has been discontinu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7" descr="C:\Users\jsundlin\AppData\Local\Microsoft\Windows\Temporary Internet Files\Content.IE5\QHETRDYM\MC900440391[1].png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721F-6CE6-4121-9AA7-7E17361D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consumer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1B0A-793C-4B20-B802-BD1A6EB1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Promotional Go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goal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ustomers’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ing customer l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a fan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ng potential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coming the hesitation of first-time bu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C:\Users\jsundlin\AppData\Local\Microsoft\Windows\Temporary Internet Files\Content.IE5\N2PGMTO6\MC900199897[1].wmf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6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ricing / Special pri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1 Adult ticket, get child ticket ½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attendance, builds fan b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ime suppor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d tickets, discount p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s loyalty with current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8935-EA6E-425B-8BE1-A5B21083D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L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elements of promotion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(next 4 slides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30492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3EEF-8074-40F6-9641-F71DF9339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 of communication delivered by a product maker or seller to consu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Adverti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people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explain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 customers of WHERE they can get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 can: take many forms, appear in almost any media and reach millions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5303880" y="228600"/>
            <a:ext cx="384012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32A0-3EFA-4A4B-830A-C951CB2B0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duct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duct integrated into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of a television show or a mov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cr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uman Show – Commercials during show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ie Trailer -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c3gI9ms8Fd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ke Commercials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youtu.be/frXlYeflkt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(9:58-12: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6" descr="http://emerging-advertising-media.wikispaces.com/file/view/Movie-product-placement.jpg/101108179/Movie-product-placement.jpg"/>
          <p:cNvPicPr/>
          <p:nvPr/>
        </p:nvPicPr>
        <p:blipFill>
          <a:blip r:embed="rId3"/>
          <a:stretch/>
        </p:blipFill>
        <p:spPr>
          <a:xfrm>
            <a:off x="6705720" y="304920"/>
            <a:ext cx="217152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3-05-24T15:14:05Z</dcterms:modified>
  <cp:revision>730</cp:revision>
  <dc:subject/>
  <dc:title>Chapter 11</dc:title>
</cp:coreProperties>
</file>